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EA82-A753-4CD0-AF0E-F67079759B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DFC75-2359-41F3-B4EE-448B01A2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74AA-03AE-4CD3-8252-FDB06694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12C0-0CBD-4A6F-9EDC-026EE1420C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C0E7-3E67-4E97-86C9-8F220847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7D2D5-254E-4186-8A3A-22C5326F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683BD-2671-4634-8973-FAFC0391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D5C94-A98B-4670-A3B0-857A4424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476D8-28BE-4A64-B5B6-0FFA5443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44C0E-DACE-40CF-9598-52209631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49CA-469A-4DD4-8CDF-B358C308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068D5-482D-493C-BF6F-68307E97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3227E-BCE7-4E56-9326-15AAD163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7BCF8-C937-422A-B8C7-923C5C81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7A25B-0105-49F2-8836-120B5CF0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DA2A3-6142-4D3F-A6FE-4C523E21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BA470-216A-45EB-A558-FF4C13E6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7FD1A-3DB9-4D70-AD88-C6248D52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990B5-724A-4F53-BE47-B4735219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B0E9-0E8B-4CDC-A3C9-45447113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8C09-B77B-46B7-98F1-FE121D74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F6BC-6771-4AE3-ABD5-0233AA01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7460-B262-4EE5-BC63-AF6E8D0D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5FB7-C983-4DA5-878E-793399CA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3B07-BDC9-4DCC-A5D6-9E5308A395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FBC8-C964-4165-A4B1-94C974F691F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7487-CC93-4C90-813F-E6ED118939C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983F-8324-4B2F-ABDC-4B668586F43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第七章  营养性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疾病患儿的护理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 杨园园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不增：最早出现的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顺序：腹部→躯干→臀部→四肢→面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身长不增，智力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脏器功能受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9148-82F0-45CB-A6D0-C70BF33326A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性贫血：最常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维生素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发性低血糖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D6E8-936C-4A79-A7D8-BC108119B43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蛋白质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F7F6-AC15-4F66-BFCA-056CAD48916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重低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1B16-6B3A-49BC-889A-68050638FA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白蛋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样生长因子降低：敏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种血清酶活性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FBF8-2D75-4D88-8ED9-483E6F874F7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祛除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整饮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C09D-549A-4AF3-BAFF-7FE58007DF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入院后完善相关检查，给予补液纠正低血糖、电解质紊乱，给予肠黏膜保护剂及肠道微生态制剂，同时进行饮食调整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患儿护理评估的内容包括哪些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何对该患儿进行饮食指导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日常生活护理应注意哪些方面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7BDD-3EBB-47EC-9E60-221474EA1F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9F39-E522-45A7-BFA1-4C0BBA27FBE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937A-C2A6-44D4-86C9-F89631BC0EF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热量和（或）蛋白质摄入不足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机体免疫低下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不能满足小儿成长发展所需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营养性缺铁性贫血、低血糖、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营养知识及小儿喂养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9672-675B-4DC9-A3B7-A320510AC8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调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，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稠，循序渐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及微量元素的供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0F30-18DD-4613-B337-75CC2E6C75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5237280" y="2565360"/>
            <a:ext cx="649080" cy="0"/>
          </a:xfrm>
          <a:prstGeom prst="line">
            <a:avLst/>
          </a:prstGeom>
          <a:ln cap="sq"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6280"/>
            <a:ext cx="3960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能量营养不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单纯性肥胖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缺乏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锌缺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消化，改善食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6CEA-4AB1-414E-9E28-9D30118FBD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E654-34E1-41AE-A1C1-DEB9C4DD00C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2C0C-0AD4-4DB2-B8CC-6B20E18D03D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健康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喂养史、生长发育史，有无母乳不足、喂养不当或不良的饮食习惯，有无消化道畸形或其他消耗性疾病，是否早产或多胎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身体状况：身长、体重、皮下脂肪厚度、皮肤状况，有无精神改变、肌张力下降、体温下降以及心率心音等是否正常。检查血清白蛋白、胰岛素样生长因子Ⅰ、血清酶活性、血糖、胆固醇、各种电解质及微量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社会状况 ：评估患儿和家长对疾病的认识程度、对治疗和护理的依从性，了解家庭亲子关系、经济状况以及患儿的个性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E3F4-9439-4D01-8917-B4D2A06E99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CF28-5504-4F12-B031-C3200058325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5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的饮食指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则：根据病情和对食物的耐受程度调整饮食，由少到多，由稀到稠，循序渐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该患儿属于中度营养不良，开始每日提供能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kcal/kg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逐渐增加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0kcal/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待体重接近正常后再恢复至正常生理需要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增加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富含各类维生素和微量元素的新鲜食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：如果胃肠功能尚好，应尽量选择口服的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A392-54AB-4E2E-8BEB-B0B1425DC3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1888-BD31-45B5-BD1A-3CFAAE44582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日常生活护理应注意的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防感染：保持皮肤、口腔清洁；注意室内空气清新，温度适宜；采用保护性隔离，预防呼吸系统感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注意观察病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科学喂养，注意膳食合理搭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加强体格锻炼，增强体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60A2-89D7-445B-8312-A081B8FB7F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7066-9DD9-476C-8793-5534F8649CD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儿单纯性肥胖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肥胖症是由于能量的摄入长期超过人体的消耗，导致体内脂肪积蓄过多，体重超过一定范围的营养障碍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我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学龄儿童中，男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6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9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，女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 22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D24A-1D18-489E-B45E-ABF390E911A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能量摄入过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过少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疾病、精神创伤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811C-E201-40CA-9A35-EAE9649EAC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：好发于婴儿期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、青春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：旺盛、喜甜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肤：白色或紫色皮纹、皱褶处易糜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型：皮下脂肪丰满、分布均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障碍：自卑、胆怯、孤独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B02B-E188-4DB3-BAA5-0818DD7A601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964C-51BA-4F81-8BBE-B2C07F8850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高于机体需要量  与摄入高能量食物过多和（或）运动过少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肥胖引起的心理障碍，不愿运动等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意象紊乱  与肥胖引起的自身形体改变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焦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控制饮食困难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E93D-6AA8-42C7-9378-066DEA65F31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Picture 4" descr="u=2792694762,1971384169&amp;gp=-42"/>
          <p:cNvPicPr/>
          <p:nvPr/>
        </p:nvPicPr>
        <p:blipFill>
          <a:blip r:embed="rId1"/>
          <a:stretch/>
        </p:blipFill>
        <p:spPr>
          <a:xfrm>
            <a:off x="5796000" y="4330800"/>
            <a:ext cx="2305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小儿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病因和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病因和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发病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锌缺乏症的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小儿做喂养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地为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患儿进行急救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评估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、单纯性肥胖症和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，并为其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1209-3DC5-4084-8307-C986835470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管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5800-AB3D-4222-83FC-F06B1006F5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755640" y="1989000"/>
            <a:ext cx="7993080" cy="36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热能＜消耗，但要满足小儿的基本营养及生长发育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饮食结构：低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、低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高蛋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体积大、低热能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良好饮食习惯：少食多餐、不吃零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运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17F3-331E-4D87-8BB5-0F967942B2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611280" y="2276640"/>
            <a:ext cx="8208720" cy="4001760"/>
          </a:xfrm>
          <a:prstGeom prst="rect">
            <a:avLst/>
          </a:prstGeom>
          <a:solidFill>
            <a:srgbClr val="e8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形式：有氧运动，容易坚持，有体重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量：以患儿最大耐受力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家长参与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孕后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儿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前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2AF9-450F-4909-82F7-B322DEBA123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佝偻病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足，导致体内钙、磷代谢失常，造成以骨骼畸形为主要表现的全身性、慢性、营养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婴幼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D836-82D3-416E-A45A-07ED6059EE8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560" y="137124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近两个月来夜间爱哭闹，不易安抚，多汗。母乳喂养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开始添加辅食，现每天添加菜泥、果泥及米粉。患儿生于北方，正值冬季，户外活动每日不足半小时且未规律服用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。母孕期无其他疾病。体检见：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方颅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cm×1.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尚未出牙，枕后头发脱落，未出牙。其余检查均正常。实验室检查结果：血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1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碱性磷酸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5IU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见尺桡骨远端干骺端临时钙化带模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临床诊断可能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治疗要点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7F74-EE88-41C3-AF92-D7AA73F22D8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CC09-B560-4477-A790-7BF27EEFB9B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来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6931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氢胆固醇   主要来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胆骨化醇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食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植物  麦角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麦角骨化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盘转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2CDE-18AF-44C3-86AC-1BAE28FA8B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755640" y="3068640"/>
            <a:ext cx="71280" cy="2664000"/>
          </a:xfrm>
          <a:custGeom>
            <a:avLst/>
            <a:gdLst>
              <a:gd name="textAreaLeft" fmla="*/ 20880 w 71280"/>
              <a:gd name="textAreaRight" fmla="*/ 71640 w 71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4"/>
                  <a:pt x="0" y="568"/>
                </a:cubicBezTo>
                <a:lnTo>
                  <a:pt x="0" y="21032"/>
                </a:lnTo>
                <a:cubicBezTo>
                  <a:pt x="0" y="2131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79280" y="3860640"/>
            <a:ext cx="50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外源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79280" y="175248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3276720" y="198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826920" y="3500280"/>
            <a:ext cx="152640" cy="533520"/>
          </a:xfrm>
          <a:custGeom>
            <a:avLst/>
            <a:gdLst>
              <a:gd name="textAreaLeft" fmla="*/ 44640 w 152640"/>
              <a:gd name="textAreaRight" fmla="*/ 153000 w 15264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转化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DD34-2290-403D-B0FE-3671A67AB0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1480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419720" y="236232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429000" y="3505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-(OH)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419720" y="426708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429000" y="5257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5(OH)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90920" y="2514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3" name="Picture 10" descr="图片1"/>
          <p:cNvPicPr/>
          <p:nvPr/>
        </p:nvPicPr>
        <p:blipFill>
          <a:blip r:embed="rId1"/>
          <a:srcRect l="7157" t="0" r="0" b="-5247"/>
          <a:stretch/>
        </p:blipFill>
        <p:spPr>
          <a:xfrm>
            <a:off x="4572000" y="4191120"/>
            <a:ext cx="660240" cy="990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1"/>
          <p:cNvSpPr/>
          <p:nvPr/>
        </p:nvSpPr>
        <p:spPr>
          <a:xfrm>
            <a:off x="2638080" y="441972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-</a:t>
            </a:r>
            <a:r>
              <a:rPr b="1" lang="el-GR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Picture 13" descr="图片2"/>
          <p:cNvPicPr/>
          <p:nvPr/>
        </p:nvPicPr>
        <p:blipFill>
          <a:blip r:embed="rId2"/>
          <a:srcRect l="1597" t="1606" r="816" b="2811"/>
          <a:stretch/>
        </p:blipFill>
        <p:spPr>
          <a:xfrm>
            <a:off x="4648320" y="2514600"/>
            <a:ext cx="990360" cy="6048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4"/>
          <p:cNvSpPr/>
          <p:nvPr/>
        </p:nvSpPr>
        <p:spPr>
          <a:xfrm>
            <a:off x="4724280" y="1752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＋ </a:t>
            </a:r>
            <a:r>
              <a:rPr b="1" lang="zh-CN" sz="2800" spc="-1" strike="noStrike">
                <a:solidFill>
                  <a:srgbClr val="046ca6"/>
                </a:solidFill>
                <a:latin typeface="华文仿宋"/>
                <a:ea typeface="华文仿宋"/>
              </a:rPr>
              <a:t>血浆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D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2ED1-AC84-4449-90DA-A78C4404FBC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04920" y="3929040"/>
            <a:ext cx="2276280" cy="2571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2790720" y="1033560"/>
            <a:ext cx="35607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生素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作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7162920" y="4614840"/>
            <a:ext cx="1109520" cy="1604880"/>
          </a:xfrm>
          <a:prstGeom prst="rect">
            <a:avLst/>
          </a:prstGeom>
          <a:ln w="0">
            <a:noFill/>
          </a:ln>
        </p:spPr>
      </p:pic>
      <p:sp>
        <p:nvSpPr>
          <p:cNvPr id="393" name="Line 6"/>
          <p:cNvSpPr/>
          <p:nvPr/>
        </p:nvSpPr>
        <p:spPr>
          <a:xfrm flipH="1">
            <a:off x="2195280" y="1841400"/>
            <a:ext cx="2971800" cy="3657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200400" y="3243240"/>
            <a:ext cx="2133720" cy="368280"/>
          </a:xfrm>
          <a:prstGeom prst="rect">
            <a:avLst/>
          </a:prstGeom>
          <a:solidFill>
            <a:srgbClr val="caeeca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仿宋"/>
              </a:rPr>
              <a:t>促进小肠黏膜对钙磷的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2124000" y="1719360"/>
            <a:ext cx="1609920" cy="25765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52480" y="2023920"/>
            <a:ext cx="2133720" cy="368280"/>
          </a:xfrm>
          <a:prstGeom prst="rect">
            <a:avLst/>
          </a:prstGeom>
          <a:solidFill>
            <a:srgbClr val="ffffb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仿宋"/>
              </a:rPr>
              <a:t>促进肾小管对钙磷的重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5181480" y="1795320"/>
            <a:ext cx="2210040" cy="3200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38680" y="3624120"/>
            <a:ext cx="2819520" cy="368280"/>
          </a:xfrm>
          <a:prstGeom prst="rect">
            <a:avLst/>
          </a:prstGeom>
          <a:solidFill>
            <a:srgbClr val="bdde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仿宋"/>
              </a:rPr>
              <a:t>促进成骨细胞增殖破骨细胞分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  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光照射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摄入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过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疾病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D672-B26B-4683-9800-505A3FC2ED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F50A-470C-4F8A-801D-C5B09DCAAF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908000" y="1270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V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 flipH="1">
            <a:off x="5410080" y="2641680"/>
            <a:ext cx="457200" cy="3808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5562720" y="469908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2286000" y="34797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2286000" y="4622760"/>
            <a:ext cx="0" cy="6811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268360" y="5716440"/>
            <a:ext cx="0" cy="503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6095880" y="660240"/>
            <a:ext cx="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6095880" y="126540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095880" y="180324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H="1">
            <a:off x="3885840" y="3251160"/>
            <a:ext cx="6094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200040" y="5460840"/>
            <a:ext cx="11430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5580000" y="3556080"/>
            <a:ext cx="0" cy="5763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093080" y="324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486400" y="2184480"/>
          <a:ext cx="1523880" cy="4572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华文仿宋"/>
                        </a:rPr>
                        <a:t>甲状旁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Line 25"/>
          <p:cNvSpPr/>
          <p:nvPr/>
        </p:nvSpPr>
        <p:spPr>
          <a:xfrm>
            <a:off x="2658960" y="6453360"/>
            <a:ext cx="20574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H="1" flipV="1">
            <a:off x="1066680" y="1650600"/>
            <a:ext cx="4267440" cy="468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066680" y="5460840"/>
            <a:ext cx="38124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>
            <a:off x="1066680" y="1655640"/>
            <a:ext cx="0" cy="381024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788000" y="622296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佝偻病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422" name="Text Box 35"/>
          <p:cNvSpPr/>
          <p:nvPr/>
        </p:nvSpPr>
        <p:spPr>
          <a:xfrm>
            <a:off x="5105520" y="941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肠道吸收钙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5715000" y="1444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1219320" y="30225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肾小管重吸收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4648320" y="3027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 Box 40"/>
          <p:cNvSpPr/>
          <p:nvPr/>
        </p:nvSpPr>
        <p:spPr>
          <a:xfrm>
            <a:off x="4572000" y="4106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破骨作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Text Box 42"/>
          <p:cNvSpPr/>
          <p:nvPr/>
        </p:nvSpPr>
        <p:spPr>
          <a:xfrm>
            <a:off x="1905120" y="40892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1523880" y="52322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钙磷乘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4343400" y="52322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正常或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295280" y="6222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骨钙化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1" name="Group 48"/>
          <p:cNvGrpSpPr/>
          <p:nvPr/>
        </p:nvGrpSpPr>
        <p:grpSpPr>
          <a:xfrm>
            <a:off x="6948360" y="3000240"/>
            <a:ext cx="2076480" cy="3033360"/>
            <a:chOff x="6948360" y="3000240"/>
            <a:chExt cx="2076480" cy="3033360"/>
          </a:xfrm>
        </p:grpSpPr>
        <p:sp>
          <p:nvSpPr>
            <p:cNvPr id="432" name="AutoShape 46"/>
            <p:cNvSpPr/>
            <p:nvPr/>
          </p:nvSpPr>
          <p:spPr>
            <a:xfrm>
              <a:off x="6948360" y="3000240"/>
              <a:ext cx="2076480" cy="303336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46ca6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6976800" y="3170520"/>
              <a:ext cx="1913040" cy="1595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骨质疏松、软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未钙化的骨样组织增生堆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蛋白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能量营养不良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能量和（或）蛋白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下的婴幼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，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儿童中重度营养不良发生率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B807-F29E-4207-8E23-71307BB3C0D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期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4DD5-9CC7-4B1B-B932-9342EE63D09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初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1197000"/>
            <a:ext cx="736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精神症状：易激惹、睡眠不安、夜间啼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汗、枕秃，骨骼改变不明显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 正常或钙化带稍模糊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-(OH)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正常或稍低、血磷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或稍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A9DB-F92E-43F8-806C-99BCC5DC1F3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429000" y="4876920"/>
            <a:ext cx="3068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43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部：颅骨软化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颅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增大 闭合延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牙延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左右出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肋骨串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郝氏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鸡胸、漏斗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0582-4B1B-4600-8139-A5FBBC3DBE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肢：手镯、脚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脊柱：后突或侧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骨盆：扁平骨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6C1C-8EBE-4BC8-BCD3-BD29BCB8009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松弛、肌张力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和动作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免疫功能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8B73-71A8-4EC2-9FEC-E214942849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280" y="1844640"/>
            <a:ext cx="455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线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钙化带消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呈杯口、毛刷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软骨带增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质稀疏、皮质变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6822-C883-48D1-9AC1-057A385946E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78A2-6EC3-415E-B4B2-2C11FD86BA7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>
            <a:lum bright="24000"/>
          </a:blip>
          <a:srcRect l="0" t="5580" r="0" b="26342"/>
          <a:stretch/>
        </p:blipFill>
        <p:spPr>
          <a:xfrm>
            <a:off x="2571840" y="1143000"/>
            <a:ext cx="43480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B8D8-DE21-48BB-B4A9-29999B8B550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9" name="Picture 5" descr="Dsc00064"/>
          <p:cNvPicPr/>
          <p:nvPr/>
        </p:nvPicPr>
        <p:blipFill>
          <a:blip r:embed="rId1"/>
          <a:stretch/>
        </p:blipFill>
        <p:spPr>
          <a:xfrm>
            <a:off x="2022480" y="1413000"/>
            <a:ext cx="5099040" cy="4471920"/>
          </a:xfrm>
          <a:prstGeom prst="rect">
            <a:avLst/>
          </a:prstGeom>
          <a:ln w="0">
            <a:noFill/>
          </a:ln>
        </p:spPr>
      </p:pic>
      <p:sp>
        <p:nvSpPr>
          <p:cNvPr id="460" name="Line 7"/>
          <p:cNvSpPr/>
          <p:nvPr/>
        </p:nvSpPr>
        <p:spPr>
          <a:xfrm flipV="1">
            <a:off x="1673280" y="397800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 flipV="1">
            <a:off x="1165320" y="281736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280" y="177300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化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钙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磷明显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显增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4179-5EA9-4689-BB2F-F26A49ED5C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恢复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症状明显减轻或消失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、磷浓度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改善，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F17D-AA03-4EF7-9921-83481E127E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体重不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就诊。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主要以米粉喂养，食欲欠佳，间断性腹泻，大便稀水样，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。患儿系第一胎，第一产，足月顺产，出生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纯母乳喂养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母乳量不足，开始添加米粉，并以米粉为主。目前还添加少量菜泥和果泥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A9B5-7B3C-42A1-9E41-E8BA8DD967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D8E4-DF5F-47CF-A7B0-B238AE350B4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02920" y="43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后遗症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后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程度的骨骼畸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临床症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3088-F7FD-4D1F-93A8-1D03ECE945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之后预防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补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营养，及时添加辅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户外活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3342-C334-41C8-B4F9-067D1A6483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日光照射不足，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摄入不足等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迟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乏导致骨骼畸形， 运动、精神发育迟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、肺部感染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佝偻病的预防和护理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B313-625E-4359-9EB1-1DE8B5B09BB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日光照射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防止中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骨骼畸形和骨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9AB2-0C0B-4591-BC85-F7DE330659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母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饮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2436-EDAF-4B33-9B7C-A65886790E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尽早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E5A2-C7B7-4C73-9839-F8BAEBDC51B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月，之后预防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钙：若乳类摄入充足（每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则不需要补充钙剂。在有低血钙、严重佝偻病或乳类摄入不足时需补充钙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及时添加富含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辅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，多晒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D5D6-E44E-452B-B2C6-92BF5FD1477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167C-3708-4D96-9F88-8BB5038582C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手足搐搦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，血钙降低导致神经肌肉兴奋性增高，出现惊厥、喉痉挛或手足抽搐等症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45A2-9DCD-404F-8A64-09242611E6F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4B7A-C9B2-462A-B9E5-9AE236A2CD0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285920" y="944640"/>
            <a:ext cx="792468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肠道吸收钙磷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降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甲状旁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分泌增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b05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b050"/>
                </a:solidFill>
                <a:latin typeface="黑体"/>
                <a:ea typeface="黑体"/>
              </a:rPr>
              <a:t>分泌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低血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盐溶解        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血钙下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钙磷乘积下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正常或偏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手足搐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钙化受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佝偻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Line 3"/>
          <p:cNvSpPr/>
          <p:nvPr/>
        </p:nvSpPr>
        <p:spPr>
          <a:xfrm flipH="1">
            <a:off x="4757400" y="2671920"/>
            <a:ext cx="685800" cy="4572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5672160" y="2671920"/>
            <a:ext cx="685800" cy="53316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4857840" y="435780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6643800" y="3500280"/>
            <a:ext cx="0" cy="50508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2286000" y="33861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5357880" y="220032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357880" y="120024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357880" y="161136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928800" y="2500200"/>
            <a:ext cx="3962160" cy="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1000080" y="5929200"/>
            <a:ext cx="3808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 flipH="1">
            <a:off x="3643200" y="3357720"/>
            <a:ext cx="4572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4857840" y="3500280"/>
            <a:ext cx="0" cy="665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5357880" y="3571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Line 28"/>
          <p:cNvSpPr/>
          <p:nvPr/>
        </p:nvSpPr>
        <p:spPr>
          <a:xfrm>
            <a:off x="928800" y="2476440"/>
            <a:ext cx="46080" cy="345276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>
            <a:off x="6643800" y="4429080"/>
            <a:ext cx="0" cy="50472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10" name="直接箭头连接符 25"/>
          <p:cNvCxnSpPr/>
          <p:nvPr/>
        </p:nvCxnSpPr>
        <p:spPr>
          <a:xfrm>
            <a:off x="2857680" y="5928840"/>
            <a:ext cx="1429200" cy="252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sp>
        <p:nvSpPr>
          <p:cNvPr id="511" name="Line 8"/>
          <p:cNvSpPr/>
          <p:nvPr/>
        </p:nvSpPr>
        <p:spPr>
          <a:xfrm>
            <a:off x="2286000" y="43149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286000" y="517212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典型发作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惊厥：最常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手足抽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喉痉挛：严重者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506B-A03B-41B3-B5D3-193760412E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6" name="Picture 6" descr="shouzhu "/>
          <p:cNvPicPr/>
          <p:nvPr/>
        </p:nvPicPr>
        <p:blipFill>
          <a:blip r:embed="rId1"/>
          <a:srcRect l="55672" t="26165" r="20935" b="37346"/>
          <a:stretch/>
        </p:blipFill>
        <p:spPr>
          <a:xfrm>
            <a:off x="6215040" y="2428920"/>
            <a:ext cx="2158920" cy="3021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shouzhu "/>
          <p:cNvPicPr/>
          <p:nvPr/>
        </p:nvPicPr>
        <p:blipFill>
          <a:blip r:embed="rId2"/>
          <a:srcRect l="14321" t="38630" r="50576" b="37346"/>
          <a:stretch/>
        </p:blipFill>
        <p:spPr>
          <a:xfrm>
            <a:off x="2214720" y="4143240"/>
            <a:ext cx="3240000" cy="198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8"/>
          <p:cNvSpPr/>
          <p:nvPr/>
        </p:nvSpPr>
        <p:spPr>
          <a:xfrm>
            <a:off x="2857680" y="62150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助产士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50088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芭蕾舞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检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3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0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精神欠佳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2cm×1.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凹陷，头发较少无光泽。皮肤干燥，弹性较差，无水肿。双肺呼吸音清，心音有力，未闻及杂音，腹部皮下脂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3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腹软，肝肋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质软。实验室检查结果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b86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P48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LB29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6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空腹血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大便常规（—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儿的临床诊断是什么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5B47-F389-477D-AD28-63ED5F8620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417A-78D2-48AB-AD4C-7645BA70B70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隐匿型体征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神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腓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陶瑟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5A9D-D4AD-43A8-8F0E-520DDE6DEE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救处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氧，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控制惊厥、喉痉挛：首选安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葡萄糖酸钙，静脉点滴或缓慢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&gt;10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B578-6441-40F9-9871-920E37495C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窒息（喉痉挛）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惊厥发作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缺乏预防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的知识以及护理惊厥和喉痉挛的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9542-9E64-45C0-A1B4-60FF171008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，做好急救准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医嘱使用镇静剂、钙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户外活动，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26A5-CEA1-44F3-A34B-6A6C80ADEDC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锌缺乏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摄入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收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量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丢失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4243-ADE3-4D8D-B66A-9FA5E6612B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减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落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脱发、皮肤粗糙、皮炎、地图舌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14C0-29F0-4AF4-AF49-0D239A23EEF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腹血清锌浓度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47μmol/l(75μg/dl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餐后血清锌浓度反应试验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9763-6582-45B1-B5E5-5797232171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针对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原发疾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当增加富含锌的食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锌制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A878-19B7-4C7C-AF0E-40DD62A073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 低于机体需要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7272-EEA0-47FE-9B65-3EB03A9AE6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喂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59C3-0D55-4F20-BC91-7A12902F02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不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增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E473-166B-4D46-9F5F-69A86317AC6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A814-C41F-4CEB-BCAF-0D0BFDC20F2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理生理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B54E-72C8-4E38-807E-9C462107C75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2763720" y="1413000"/>
            <a:ext cx="2113200" cy="5205240"/>
            <a:chOff x="2763720" y="1413000"/>
            <a:chExt cx="2113200" cy="5205240"/>
          </a:xfrm>
        </p:grpSpPr>
        <p:sp>
          <p:nvSpPr>
            <p:cNvPr id="195" name="Text Box 7"/>
            <p:cNvSpPr/>
            <p:nvPr/>
          </p:nvSpPr>
          <p:spPr>
            <a:xfrm>
              <a:off x="2803680" y="2411280"/>
              <a:ext cx="1828800" cy="48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肪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3657600" y="3075120"/>
              <a:ext cx="200160" cy="707760"/>
            </a:xfrm>
            <a:prstGeom prst="downArrow">
              <a:avLst>
                <a:gd name="adj1" fmla="val 50000"/>
                <a:gd name="adj2" fmla="val 484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925720" y="3865680"/>
              <a:ext cx="1625760" cy="92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胆固醇和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皮下脂肪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2763720" y="5516640"/>
              <a:ext cx="2113200" cy="110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不增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脂肪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性及浸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3714840" y="4903920"/>
              <a:ext cx="214200" cy="5410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20"/>
            <p:cNvSpPr/>
            <p:nvPr/>
          </p:nvSpPr>
          <p:spPr>
            <a:xfrm>
              <a:off x="3657600" y="1413000"/>
              <a:ext cx="200160" cy="873000"/>
            </a:xfrm>
            <a:prstGeom prst="downArrow">
              <a:avLst>
                <a:gd name="adj1" fmla="val 50000"/>
                <a:gd name="adj2" fmla="val 670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788000" y="1413000"/>
            <a:ext cx="1260360" cy="3144240"/>
            <a:chOff x="4788000" y="1413000"/>
            <a:chExt cx="1260360" cy="3144240"/>
          </a:xfrm>
        </p:grpSpPr>
        <p:sp>
          <p:nvSpPr>
            <p:cNvPr id="202" name="Text Box 12"/>
            <p:cNvSpPr/>
            <p:nvPr/>
          </p:nvSpPr>
          <p:spPr>
            <a:xfrm>
              <a:off x="4788000" y="2421000"/>
              <a:ext cx="1260360" cy="719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糖原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4790880" y="4005360"/>
              <a:ext cx="1220400" cy="55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糖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5219640" y="3286080"/>
              <a:ext cx="205920" cy="684360"/>
            </a:xfrm>
            <a:prstGeom prst="downArrow">
              <a:avLst>
                <a:gd name="adj1" fmla="val 50000"/>
                <a:gd name="adj2" fmla="val 333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21"/>
            <p:cNvSpPr/>
            <p:nvPr/>
          </p:nvSpPr>
          <p:spPr>
            <a:xfrm>
              <a:off x="5278320" y="1413000"/>
              <a:ext cx="218520" cy="831600"/>
            </a:xfrm>
            <a:prstGeom prst="downArrow">
              <a:avLst>
                <a:gd name="adj1" fmla="val 50000"/>
                <a:gd name="adj2" fmla="val 6404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411120" y="1005480"/>
            <a:ext cx="2870640" cy="5158080"/>
            <a:chOff x="411120" y="1005480"/>
            <a:chExt cx="2870640" cy="5158080"/>
          </a:xfrm>
        </p:grpSpPr>
        <p:sp>
          <p:nvSpPr>
            <p:cNvPr id="207" name="Text Box 2"/>
            <p:cNvSpPr/>
            <p:nvPr/>
          </p:nvSpPr>
          <p:spPr>
            <a:xfrm>
              <a:off x="411120" y="2411280"/>
              <a:ext cx="2127240" cy="484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蛋白质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3"/>
            <p:cNvSpPr/>
            <p:nvPr/>
          </p:nvSpPr>
          <p:spPr>
            <a:xfrm>
              <a:off x="1270080" y="2951280"/>
              <a:ext cx="214200" cy="747720"/>
            </a:xfrm>
            <a:prstGeom prst="downArrow">
              <a:avLst>
                <a:gd name="adj1" fmla="val 50000"/>
                <a:gd name="adj2" fmla="val 4602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452520" y="3824280"/>
              <a:ext cx="2031840" cy="961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白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1270080" y="4946760"/>
              <a:ext cx="214200" cy="539640"/>
            </a:xfrm>
            <a:prstGeom prst="downArrow">
              <a:avLst>
                <a:gd name="adj1" fmla="val 50000"/>
                <a:gd name="adj2" fmla="val 332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11120" y="5611680"/>
              <a:ext cx="2200320" cy="551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蛋白水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rot="3175200">
              <a:off x="2339280" y="695880"/>
              <a:ext cx="199800" cy="1960560"/>
            </a:xfrm>
            <a:prstGeom prst="downArrow">
              <a:avLst>
                <a:gd name="adj1" fmla="val 50000"/>
                <a:gd name="adj2" fmla="val 128791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3" name="Oval 24"/>
          <p:cNvSpPr/>
          <p:nvPr/>
        </p:nvSpPr>
        <p:spPr>
          <a:xfrm>
            <a:off x="3203640" y="506520"/>
            <a:ext cx="3097080" cy="112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组合 36"/>
          <p:cNvGrpSpPr/>
          <p:nvPr/>
        </p:nvGrpSpPr>
        <p:grpSpPr>
          <a:xfrm>
            <a:off x="5982840" y="1234440"/>
            <a:ext cx="2543760" cy="5222520"/>
            <a:chOff x="5982840" y="1234440"/>
            <a:chExt cx="2543760" cy="5222520"/>
          </a:xfrm>
        </p:grpSpPr>
        <p:sp>
          <p:nvSpPr>
            <p:cNvPr id="215" name="Text Box 15"/>
            <p:cNvSpPr/>
            <p:nvPr/>
          </p:nvSpPr>
          <p:spPr>
            <a:xfrm>
              <a:off x="6401880" y="2421360"/>
              <a:ext cx="1584720" cy="826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6114600" y="3934080"/>
              <a:ext cx="2235600" cy="585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6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钠在细胞内潴留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186240" y="5402520"/>
              <a:ext cx="2340360" cy="1054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渗性脱水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血钾、酸中毒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AutoShape 18"/>
            <p:cNvSpPr/>
            <p:nvPr/>
          </p:nvSpPr>
          <p:spPr>
            <a:xfrm>
              <a:off x="7097760" y="3283200"/>
              <a:ext cx="250560" cy="541080"/>
            </a:xfrm>
            <a:prstGeom prst="downArrow">
              <a:avLst>
                <a:gd name="adj1" fmla="val 50000"/>
                <a:gd name="adj2" fmla="val 3332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AutoShape 19"/>
            <p:cNvSpPr/>
            <p:nvPr/>
          </p:nvSpPr>
          <p:spPr>
            <a:xfrm>
              <a:off x="7097760" y="4780440"/>
              <a:ext cx="250560" cy="539640"/>
            </a:xfrm>
            <a:prstGeom prst="downArrow">
              <a:avLst>
                <a:gd name="adj1" fmla="val 50000"/>
                <a:gd name="adj2" fmla="val 332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AutoShape 22"/>
            <p:cNvSpPr/>
            <p:nvPr/>
          </p:nvSpPr>
          <p:spPr>
            <a:xfrm rot="18895200">
              <a:off x="6441480" y="1117800"/>
              <a:ext cx="251640" cy="1400040"/>
            </a:xfrm>
            <a:prstGeom prst="downArrow">
              <a:avLst>
                <a:gd name="adj1" fmla="val 50000"/>
                <a:gd name="adj2" fmla="val 14560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474960" y="2349720"/>
              <a:ext cx="158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电解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代谢异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2" name="Text Box 30"/>
          <p:cNvSpPr/>
          <p:nvPr/>
        </p:nvSpPr>
        <p:spPr>
          <a:xfrm>
            <a:off x="3564000" y="822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陈代谢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6372360" y="907920"/>
            <a:ext cx="2158920" cy="720720"/>
            <a:chOff x="6372360" y="907920"/>
            <a:chExt cx="2158920" cy="720720"/>
          </a:xfrm>
        </p:grpSpPr>
        <p:sp>
          <p:nvSpPr>
            <p:cNvPr id="224" name="AutoShape 27"/>
            <p:cNvSpPr/>
            <p:nvPr/>
          </p:nvSpPr>
          <p:spPr>
            <a:xfrm>
              <a:off x="6372360" y="1052280"/>
              <a:ext cx="690480" cy="235080"/>
            </a:xfrm>
            <a:prstGeom prst="rightArrow">
              <a:avLst>
                <a:gd name="adj1" fmla="val 50000"/>
                <a:gd name="adj2" fmla="val 5938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28"/>
            <p:cNvSpPr/>
            <p:nvPr/>
          </p:nvSpPr>
          <p:spPr>
            <a:xfrm>
              <a:off x="7307280" y="907920"/>
              <a:ext cx="122400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7380360" y="10522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体温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280" y="1341360"/>
            <a:ext cx="4597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各系统功能低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2F9C-02FE-45DF-9B8A-1ED4A7CFC6A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0" name="Group 39"/>
          <p:cNvGrpSpPr/>
          <p:nvPr/>
        </p:nvGrpSpPr>
        <p:grpSpPr>
          <a:xfrm>
            <a:off x="2340000" y="2077920"/>
            <a:ext cx="2376360" cy="4182120"/>
            <a:chOff x="2340000" y="2077920"/>
            <a:chExt cx="2376360" cy="4182120"/>
          </a:xfrm>
        </p:grpSpPr>
        <p:sp>
          <p:nvSpPr>
            <p:cNvPr id="231" name="AutoShape 3"/>
            <p:cNvSpPr/>
            <p:nvPr/>
          </p:nvSpPr>
          <p:spPr>
            <a:xfrm>
              <a:off x="3373560" y="2077920"/>
              <a:ext cx="198360" cy="547920"/>
            </a:xfrm>
            <a:prstGeom prst="downArrow">
              <a:avLst>
                <a:gd name="adj1" fmla="val 50000"/>
                <a:gd name="adj2" fmla="val 4211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1680" y="2625840"/>
              <a:ext cx="1828800" cy="40572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循环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3332160" y="3220920"/>
              <a:ext cx="168120" cy="478080"/>
            </a:xfrm>
            <a:prstGeom prst="downArrow">
              <a:avLst>
                <a:gd name="adj1" fmla="val 50000"/>
                <a:gd name="adj2" fmla="val 2943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2519280" y="3699000"/>
              <a:ext cx="1951200" cy="37836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肌收缩力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2847960" y="4654440"/>
              <a:ext cx="1422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博量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5"/>
            <p:cNvSpPr/>
            <p:nvPr/>
          </p:nvSpPr>
          <p:spPr>
            <a:xfrm>
              <a:off x="3332160" y="4195800"/>
              <a:ext cx="168120" cy="458640"/>
            </a:xfrm>
            <a:prstGeom prst="downArrow">
              <a:avLst>
                <a:gd name="adj1" fmla="val 50000"/>
                <a:gd name="adj2" fmla="val 28240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92560" y="5259240"/>
              <a:ext cx="207720" cy="540000"/>
            </a:xfrm>
            <a:prstGeom prst="downArrow">
              <a:avLst>
                <a:gd name="adj1" fmla="val 50000"/>
                <a:gd name="adj2" fmla="val 3325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2340000" y="5799240"/>
              <a:ext cx="2376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脉细弱、 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BP 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4449600" y="1989000"/>
            <a:ext cx="2560680" cy="3372480"/>
            <a:chOff x="4449600" y="1989000"/>
            <a:chExt cx="2560680" cy="3372480"/>
          </a:xfrm>
        </p:grpSpPr>
        <p:sp>
          <p:nvSpPr>
            <p:cNvPr id="240" name="AutoShape 4"/>
            <p:cNvSpPr/>
            <p:nvPr/>
          </p:nvSpPr>
          <p:spPr>
            <a:xfrm>
              <a:off x="5405400" y="1989000"/>
              <a:ext cx="238320" cy="831960"/>
            </a:xfrm>
            <a:prstGeom prst="downArrow">
              <a:avLst>
                <a:gd name="adj1" fmla="val 50000"/>
                <a:gd name="adj2" fmla="val 63855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788000" y="2852640"/>
              <a:ext cx="1503360" cy="32364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泌尿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4551480" y="3870360"/>
              <a:ext cx="2252520" cy="46080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小管重吸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5405400" y="3330720"/>
              <a:ext cx="238320" cy="539640"/>
            </a:xfrm>
            <a:prstGeom prst="downArrow">
              <a:avLst>
                <a:gd name="adj1" fmla="val 50000"/>
                <a:gd name="adj2" fmla="val 3316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AutoShape 22"/>
            <p:cNvSpPr/>
            <p:nvPr/>
          </p:nvSpPr>
          <p:spPr>
            <a:xfrm>
              <a:off x="5405400" y="4473720"/>
              <a:ext cx="238320" cy="541080"/>
            </a:xfrm>
            <a:prstGeom prst="downArrow">
              <a:avLst>
                <a:gd name="adj1" fmla="val 50000"/>
                <a:gd name="adj2" fmla="val 3325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4449600" y="5065560"/>
              <a:ext cx="2560680" cy="295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尿多、 尿比重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34920" y="1681560"/>
            <a:ext cx="2641680" cy="4954320"/>
            <a:chOff x="34920" y="1681560"/>
            <a:chExt cx="2641680" cy="4954320"/>
          </a:xfrm>
        </p:grpSpPr>
        <p:sp>
          <p:nvSpPr>
            <p:cNvPr id="247" name="AutoShape 6"/>
            <p:cNvSpPr/>
            <p:nvPr/>
          </p:nvSpPr>
          <p:spPr>
            <a:xfrm rot="3175200">
              <a:off x="1699200" y="1360800"/>
              <a:ext cx="189000" cy="1993680"/>
            </a:xfrm>
            <a:prstGeom prst="downArrow">
              <a:avLst>
                <a:gd name="adj1" fmla="val 50000"/>
                <a:gd name="adj2" fmla="val 1309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244440" y="3159000"/>
              <a:ext cx="1787400" cy="405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974880" y="3740040"/>
              <a:ext cx="239400" cy="541440"/>
            </a:xfrm>
            <a:prstGeom prst="downArrow">
              <a:avLst>
                <a:gd name="adj1" fmla="val 50000"/>
                <a:gd name="adj2" fmla="val 3334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34920" y="4357800"/>
              <a:ext cx="2641680" cy="3510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液和消化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AutoShape 10"/>
            <p:cNvSpPr/>
            <p:nvPr/>
          </p:nvSpPr>
          <p:spPr>
            <a:xfrm>
              <a:off x="974880" y="4903920"/>
              <a:ext cx="239400" cy="541080"/>
            </a:xfrm>
            <a:prstGeom prst="downArrow">
              <a:avLst>
                <a:gd name="adj1" fmla="val 50000"/>
                <a:gd name="adj2" fmla="val 3332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AutoShape 26"/>
            <p:cNvSpPr/>
            <p:nvPr/>
          </p:nvSpPr>
          <p:spPr>
            <a:xfrm>
              <a:off x="179280" y="5472000"/>
              <a:ext cx="1656000" cy="1163880"/>
            </a:xfrm>
            <a:prstGeom prst="octagon">
              <a:avLst>
                <a:gd name="adj" fmla="val 29287"/>
              </a:avLst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菌群失调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腹泻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6421320" y="1413000"/>
            <a:ext cx="2543400" cy="720720"/>
            <a:chOff x="6421320" y="1413000"/>
            <a:chExt cx="2543400" cy="720720"/>
          </a:xfrm>
        </p:grpSpPr>
        <p:sp>
          <p:nvSpPr>
            <p:cNvPr id="254" name="AutoShape 27"/>
            <p:cNvSpPr/>
            <p:nvPr/>
          </p:nvSpPr>
          <p:spPr>
            <a:xfrm>
              <a:off x="7236000" y="1413000"/>
              <a:ext cx="165708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28"/>
            <p:cNvSpPr/>
            <p:nvPr/>
          </p:nvSpPr>
          <p:spPr>
            <a:xfrm>
              <a:off x="6421320" y="1557720"/>
              <a:ext cx="690840" cy="230040"/>
            </a:xfrm>
            <a:prstGeom prst="rightArrow">
              <a:avLst>
                <a:gd name="adj1" fmla="val 50000"/>
                <a:gd name="adj2" fmla="val 594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35"/>
            <p:cNvSpPr/>
            <p:nvPr/>
          </p:nvSpPr>
          <p:spPr>
            <a:xfrm>
              <a:off x="7236000" y="1557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免疫功能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7" name="Group 41"/>
          <p:cNvGrpSpPr/>
          <p:nvPr/>
        </p:nvGrpSpPr>
        <p:grpSpPr>
          <a:xfrm>
            <a:off x="6184080" y="1755360"/>
            <a:ext cx="2851920" cy="4698000"/>
            <a:chOff x="6184080" y="1755360"/>
            <a:chExt cx="2851920" cy="4698000"/>
          </a:xfrm>
        </p:grpSpPr>
        <p:sp>
          <p:nvSpPr>
            <p:cNvPr id="258" name="AutoShape 5"/>
            <p:cNvSpPr/>
            <p:nvPr/>
          </p:nvSpPr>
          <p:spPr>
            <a:xfrm rot="18895200">
              <a:off x="6790680" y="1562760"/>
              <a:ext cx="201600" cy="1797120"/>
            </a:xfrm>
            <a:prstGeom prst="downArrow">
              <a:avLst>
                <a:gd name="adj1" fmla="val 50000"/>
                <a:gd name="adj2" fmla="val 15488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19"/>
            <p:cNvSpPr/>
            <p:nvPr/>
          </p:nvSpPr>
          <p:spPr>
            <a:xfrm>
              <a:off x="7812000" y="3860640"/>
              <a:ext cx="189000" cy="409680"/>
            </a:xfrm>
            <a:prstGeom prst="downArrow">
              <a:avLst>
                <a:gd name="adj1" fmla="val 50000"/>
                <a:gd name="adj2" fmla="val 251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7236000" y="5445000"/>
              <a:ext cx="1512720" cy="100836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6948360" y="3116160"/>
              <a:ext cx="1944720" cy="623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7380360" y="4292640"/>
              <a:ext cx="1295280" cy="720720"/>
            </a:xfrm>
            <a:prstGeom prst="rect">
              <a:avLst/>
            </a:prstGeom>
            <a:solidFill>
              <a:srgbClr val="c1ffe6"/>
            </a:solidFill>
            <a:ln cap="sq" w="1260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>
              <a:off x="7812000" y="5084640"/>
              <a:ext cx="189000" cy="336600"/>
            </a:xfrm>
            <a:prstGeom prst="downArrow">
              <a:avLst>
                <a:gd name="adj1" fmla="val 50000"/>
                <a:gd name="adj2" fmla="val 2499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36"/>
            <p:cNvSpPr/>
            <p:nvPr/>
          </p:nvSpPr>
          <p:spPr>
            <a:xfrm>
              <a:off x="6877080" y="32004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枢神经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38"/>
            <p:cNvSpPr/>
            <p:nvPr/>
          </p:nvSpPr>
          <p:spPr>
            <a:xfrm>
              <a:off x="7380360" y="43354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体积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细胞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7380360" y="551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不可逆损伤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理生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1T09:36:15Z</dcterms:modified>
  <cp:revision>157</cp:revision>
  <dc:subject/>
  <dc:title>内科护理学</dc:title>
</cp:coreProperties>
</file>